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9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27.gif" ContentType="image/gif"/>
  <Override PartName="/ppt/media/image22.jpeg" ContentType="image/jpeg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513-EE9D-479A-B25E-DFE861D5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ADE-E216-499C-A4AD-CD106B7E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DCE-9800-4267-8FC8-AA2A85FC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7F1-45F9-4AA0-96BA-15C0F2A8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F9D-00FF-4BD9-AF76-103C2D20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A27-920E-43A7-BF5E-0A527D22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744-D596-443C-90CA-38B83B21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44A-CD7D-4974-980F-93B6682A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549-5AEE-4C43-8696-DC6F17CA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B16-F385-4A74-80FC-E336EF8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9E9-00D0-4690-BC64-C2853FA7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311-616E-4D73-BCE6-89DC392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E7A8-817E-465C-9CCD-3867ED180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5" descr="big.jpg"/>
          <p:cNvPicPr/>
          <p:nvPr/>
        </p:nvPicPr>
        <p:blipFill>
          <a:blip r:embed="rId1"/>
          <a:srcRect l="0" t="7570" r="0" b="12428"/>
          <a:stretch/>
        </p:blipFill>
        <p:spPr>
          <a:xfrm rot="21368400">
            <a:off x="5865480" y="4525920"/>
            <a:ext cx="1836720" cy="22734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0a7d60f6f0fc0b2a9f4708881d7bc295.jpg"/>
          <p:cNvPicPr/>
          <p:nvPr/>
        </p:nvPicPr>
        <p:blipFill>
          <a:blip r:embed="rId2"/>
          <a:stretch/>
        </p:blipFill>
        <p:spPr>
          <a:xfrm rot="21013800">
            <a:off x="431640" y="2739960"/>
            <a:ext cx="1981440" cy="2559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b32874"/>
          <p:cNvPicPr/>
          <p:nvPr/>
        </p:nvPicPr>
        <p:blipFill>
          <a:blip r:embed="rId3"/>
          <a:stretch/>
        </p:blipFill>
        <p:spPr>
          <a:xfrm rot="21102000">
            <a:off x="291960" y="4730760"/>
            <a:ext cx="1457640" cy="2031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Елена Александровна Благи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34154317.jpg"/>
          <p:cNvPicPr/>
          <p:nvPr/>
        </p:nvPicPr>
        <p:blipFill>
          <a:blip r:embed="rId4"/>
          <a:stretch/>
        </p:blipFill>
        <p:spPr>
          <a:xfrm rot="20799600">
            <a:off x="7205400" y="436680"/>
            <a:ext cx="1565280" cy="20080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60dcefa9b3c3.jpg"/>
          <p:cNvPicPr/>
          <p:nvPr/>
        </p:nvPicPr>
        <p:blipFill>
          <a:blip r:embed="rId5"/>
          <a:stretch/>
        </p:blipFill>
        <p:spPr>
          <a:xfrm rot="199800">
            <a:off x="7329240" y="3995640"/>
            <a:ext cx="176184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72183.jpg"/>
          <p:cNvPicPr/>
          <p:nvPr/>
        </p:nvPicPr>
        <p:blipFill>
          <a:blip r:embed="rId6"/>
          <a:stretch/>
        </p:blipFill>
        <p:spPr>
          <a:xfrm rot="186000">
            <a:off x="7646760" y="2400120"/>
            <a:ext cx="1447560" cy="1842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123417----.jpg"/>
          <p:cNvPicPr/>
          <p:nvPr/>
        </p:nvPicPr>
        <p:blipFill>
          <a:blip r:embed="rId7"/>
          <a:stretch/>
        </p:blipFill>
        <p:spPr>
          <a:xfrm rot="392400">
            <a:off x="1657440" y="4313160"/>
            <a:ext cx="1904760" cy="2444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4" descr="1002473793.jpg"/>
          <p:cNvPicPr/>
          <p:nvPr/>
        </p:nvPicPr>
        <p:blipFill>
          <a:blip r:embed="rId8"/>
          <a:stretch/>
        </p:blipFill>
        <p:spPr>
          <a:xfrm rot="21234600">
            <a:off x="155160" y="623520"/>
            <a:ext cx="125748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6" descr="e-blaginina-stixi-i-skazki.jpg"/>
          <p:cNvPicPr/>
          <p:nvPr/>
        </p:nvPicPr>
        <p:blipFill>
          <a:blip r:embed="rId9"/>
          <a:srcRect l="19818" t="16984" r="17928" b="16984"/>
          <a:stretch/>
        </p:blipFill>
        <p:spPr>
          <a:xfrm rot="21433200">
            <a:off x="6375240" y="2239560"/>
            <a:ext cx="1317960" cy="2098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3" descr="166244.jpg"/>
          <p:cNvPicPr/>
          <p:nvPr/>
        </p:nvPicPr>
        <p:blipFill>
          <a:blip r:embed="rId10"/>
          <a:stretch/>
        </p:blipFill>
        <p:spPr>
          <a:xfrm>
            <a:off x="709560" y="539640"/>
            <a:ext cx="2513160" cy="251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74679493_Blaginina"/>
          <p:cNvPicPr/>
          <p:nvPr/>
        </p:nvPicPr>
        <p:blipFill>
          <a:blip r:embed="rId11"/>
          <a:stretch/>
        </p:blipFill>
        <p:spPr>
          <a:xfrm>
            <a:off x="2736720" y="1274760"/>
            <a:ext cx="3670560" cy="50594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Arial"/>
              </a:rPr>
              <a:t>Работа над стихотворениями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99840" y="57168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Чтение стихотворения «Кукуш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к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и голос зауны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стать неяркому деньку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сердечный и отзыв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тра до веч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у-ку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близко, то далёко где-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ляет по всему лес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ихо расцветает л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это мил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у-ку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пахнет перегретой смол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о подставив ветер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жу, блаженствую под ёл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луш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у-ку, ку-ку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Бес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акое стихотворение оно вам напомни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Перечитайте эти стихи, сравните их.       Найдите отлич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читайте стихотворение вырази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919920" y="4572000"/>
            <a:ext cx="1638360" cy="1847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Admin\Рабочий стол\Благинина\blag05.jpg"/>
          <p:cNvPicPr/>
          <p:nvPr/>
        </p:nvPicPr>
        <p:blipFill>
          <a:blip r:embed="rId1"/>
          <a:stretch/>
        </p:blipFill>
        <p:spPr>
          <a:xfrm>
            <a:off x="214200" y="142920"/>
            <a:ext cx="4378320" cy="300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Admin\Рабочий стол\Благинина\blag06.jpg"/>
          <p:cNvPicPr/>
          <p:nvPr/>
        </p:nvPicPr>
        <p:blipFill>
          <a:blip r:embed="rId2"/>
          <a:stretch/>
        </p:blipFill>
        <p:spPr>
          <a:xfrm>
            <a:off x="2857680" y="3357720"/>
            <a:ext cx="4857480" cy="326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D:\АНИМАШКИ.RU (G)\animashky\ОБЫЧНЫЕ\животные\кошки\4991.gif"/>
          <p:cNvPicPr/>
          <p:nvPr/>
        </p:nvPicPr>
        <p:blipFill>
          <a:blip r:embed="rId3"/>
          <a:stretch/>
        </p:blipFill>
        <p:spPr>
          <a:xfrm>
            <a:off x="21420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4357800" y="357120"/>
            <a:ext cx="478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8c93"/>
                </a:solidFill>
                <a:latin typeface="Arial"/>
              </a:rPr>
              <a:t>Стра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c8c93"/>
                </a:solidFill>
                <a:latin typeface="Arial"/>
              </a:rPr>
              <a:t>из книги Е.Благини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12.wav" descr=""/>
          <p:cNvPicPr/>
          <p:nvPr/>
        </p:nvPicPr>
        <p:blipFill>
          <a:blip r:embed="rId4"/>
          <a:stretch/>
        </p:blipFill>
        <p:spPr>
          <a:xfrm>
            <a:off x="0" y="7286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4838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4838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80438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.Чтение стихотворения «Котён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57320" y="785520"/>
            <a:ext cx="32144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тёно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Я нашла в саду котён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н мяукал тонко-тонко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н мяукал и дрожа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ожет быть, его побили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ли в дом пустить забыли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ли сам он убежал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нь с утра стоял ненастны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Лужи серые везде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ак и быть зверёк несчастны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могу твоей беде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Я взяла его дом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кормила досыта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коро стал котёнок м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гляденье просто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ерсть - как бархат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Хвост - трубой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о чего ж хорош собой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572080" y="4286160"/>
            <a:ext cx="2952720" cy="2181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9640" y="26028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Бесе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  Какое настроение у вас появилось во время чтения этого стихотвор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вы думаете о девоч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ходилось ли вам видеть такую картину, какую увидела девоч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чём стихотворения Е. Благинин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думаете, почему она так много пишет      о любви к животны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. Выразительное чтение стихотворения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вложите все свои чувства, которые переживала девочка, по вашему мнению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1972800"/>
            <a:ext cx="777708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чьего лица ведётся рассказ в стихотворениях «Кукушка» и «Котёнок»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ы думаешь о детях? Какие они, как относятся к природе, животным и птицам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чём стихотворения Благининой? Почему она так много пишет о любви к живот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549360"/>
            <a:ext cx="7485120" cy="9381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ему  научили вас прочитанные стих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д чем заставили задум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Елена Александровна  Благинин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собрать слова из букв, чтобы узнать названия стихотворений, которые мы будем на уроке 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А К Ш У К У 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Н К Ё Т О К 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7500960" y="714240"/>
            <a:ext cx="1428840" cy="10004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640" y="2286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Какие стихи вы уже читали и зна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Я дома не люблю сидеть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дома не люблю сиде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 нравится ход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лю ходить, люблю гляде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зей с собой води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осидим в тишине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ма спит, она уста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 и я играть не ста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волчка не завож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уселась и сиж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То-то горе наше!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ва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п, с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перл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, круп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1076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Тема урока: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Е.Благинина «Кукушка», «Котёнок».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ыразительное ч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4296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Цели уро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ширить знания о жизни и творчестве Е. Благининой; понимать смысл прочита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 и выразительно читать; развивать память, речь, мышление, передавать своё и авторское отношение к изображаем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об авт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бовь к сказкам, стихам привила бабушка, Юлия Герасимовна, которая частенько их рассказывала многочисленным внука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емье курского железнодорожника Александра Александровича Благинина было 9 детей. В доме часто звучали песни, в обычае были домашние спектакли, всевозможные маленькие сюрпризы для детей. Именно для домашнего театра начала она писать свои первые стихи, сказки и пьес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523880"/>
            <a:ext cx="8415360" cy="53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детскую литературу Елена Александровна пришла в начале 30-х годов. Именно тогда на страницах журнала «Мурзилка», где печатались такие поэты, как Маршак, Барто, Михалков, появилось новое им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. Благин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«Ребята любили и её, и её стихи - замечательные стихи о том, что близко и дорого детям: про ветер, про дождик, про радугу, про берёзки, про яблоки, про сад и огород и, конечно, про самих детей, про их радости и горести», - вспоминает литературовед Е. Таратута, работавшая тогда в библиотеке, где авторы «Мурзилки» выступали перед маленькими читате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42920" y="571680"/>
            <a:ext cx="3900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дома не люблю сиде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рабанщ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ово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морилас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добрым ут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идим в тиш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т какая м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юбуйтесь-ка, игрушк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ходите, поглядите!   и 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500040" y="571680"/>
            <a:ext cx="39006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гон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точ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летают, улетел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а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 хрустальный башмач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льные пузы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х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solnishko"/>
          <p:cNvPicPr/>
          <p:nvPr/>
        </p:nvPicPr>
        <p:blipFill>
          <a:blip r:embed="rId1"/>
          <a:stretch/>
        </p:blipFill>
        <p:spPr>
          <a:xfrm>
            <a:off x="2428920" y="0"/>
            <a:ext cx="1830240" cy="1571760"/>
          </a:xfrm>
          <a:prstGeom prst="rect">
            <a:avLst/>
          </a:prstGeom>
          <a:ln w="0">
            <a:noFill/>
          </a:ln>
        </p:spPr>
      </p:pic>
      <p:sp>
        <p:nvSpPr>
          <p:cNvPr id="66" name="Дата 3"/>
          <p:cNvSpPr/>
          <p:nvPr/>
        </p:nvSpPr>
        <p:spPr>
          <a:xfrm>
            <a:off x="5000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4"/>
          <p:cNvSpPr/>
          <p:nvPr/>
        </p:nvSpPr>
        <p:spPr>
          <a:xfrm>
            <a:off x="3071880" y="62150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7" descr=""/>
          <p:cNvPicPr/>
          <p:nvPr/>
        </p:nvPicPr>
        <p:blipFill>
          <a:blip r:embed="rId2"/>
          <a:stretch/>
        </p:blipFill>
        <p:spPr>
          <a:xfrm>
            <a:off x="3998880" y="139680"/>
            <a:ext cx="4956120" cy="957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14200" y="21420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.А.Благинина прожила долгую жизнь и работала постоянно. Она писала стихи, искрящиеся юмором, дразнилки, считалки, скороговорки, песенки, сказ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:\big.jpg"/>
          <p:cNvPicPr/>
          <p:nvPr/>
        </p:nvPicPr>
        <p:blipFill>
          <a:blip r:embed="rId1"/>
          <a:stretch/>
        </p:blipFill>
        <p:spPr>
          <a:xfrm>
            <a:off x="428760" y="1285920"/>
            <a:ext cx="2449440" cy="3786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H:\1000945428.jpg"/>
          <p:cNvPicPr/>
          <p:nvPr/>
        </p:nvPicPr>
        <p:blipFill>
          <a:blip r:embed="rId2"/>
          <a:stretch/>
        </p:blipFill>
        <p:spPr>
          <a:xfrm>
            <a:off x="3286080" y="1285920"/>
            <a:ext cx="2092320" cy="2071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:\55869.jpg"/>
          <p:cNvPicPr/>
          <p:nvPr/>
        </p:nvPicPr>
        <p:blipFill>
          <a:blip r:embed="rId3"/>
          <a:stretch/>
        </p:blipFill>
        <p:spPr>
          <a:xfrm>
            <a:off x="3071880" y="3614760"/>
            <a:ext cx="2438280" cy="324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:\212063_200.gif"/>
          <p:cNvPicPr/>
          <p:nvPr/>
        </p:nvPicPr>
        <p:blipFill>
          <a:blip r:embed="rId4"/>
          <a:stretch/>
        </p:blipFill>
        <p:spPr>
          <a:xfrm>
            <a:off x="5786280" y="1143000"/>
            <a:ext cx="2818080" cy="4000680"/>
          </a:xfrm>
          <a:prstGeom prst="rect">
            <a:avLst/>
          </a:prstGeom>
          <a:ln w="0">
            <a:noFill/>
          </a:ln>
        </p:spPr>
      </p:pic>
      <p:pic>
        <p:nvPicPr>
          <p:cNvPr id="74" name="б7.wav" descr=""/>
          <p:cNvPicPr/>
          <p:nvPr/>
        </p:nvPicPr>
        <p:blipFill>
          <a:blip r:embed="rId5"/>
          <a:stretch/>
        </p:blipFill>
        <p:spPr>
          <a:xfrm>
            <a:off x="0" y="7215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26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Картинка 2 из 50604"/>
          <p:cNvPicPr/>
          <p:nvPr/>
        </p:nvPicPr>
        <p:blipFill>
          <a:blip r:embed="rId1"/>
          <a:stretch/>
        </p:blipFill>
        <p:spPr>
          <a:xfrm>
            <a:off x="590400" y="333360"/>
            <a:ext cx="2829240" cy="316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os1.i.ua/3/1/7250045_e521f896.jpg"/>
          <p:cNvPicPr/>
          <p:nvPr/>
        </p:nvPicPr>
        <p:blipFill>
          <a:blip r:embed="rId2"/>
          <a:stretch/>
        </p:blipFill>
        <p:spPr>
          <a:xfrm>
            <a:off x="5383080" y="981000"/>
            <a:ext cx="3475080" cy="244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 flipV="1" rot="10800000">
            <a:off x="514080" y="3511800"/>
            <a:ext cx="863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ушка - символ нахлебника, бездельника. Более распространен положительный символизм кукушки — предвестницы весны, лета или богатства. Ее повторяющиеся крики породили поверье, что, услышав кукушку, нужно потрясти на счастье монетами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, что у кукушат, уже через несколько часов после рождения в чужом гнезде проявляется так называемый рефлекс «выбрасывания». Другой любопытной особенностью кукушечьей поро­ды является почти полное отсутствие «голоса» у самки кукушки. Немногие, наверное, знают, что кукование в на­ших лесах, к которому мы так привыкли,—дело самца кукушки. Самка же может только издавать не очень слышное «кли-кли-к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icture 6"/>
          <p:cNvSpPr/>
          <p:nvPr/>
        </p:nvSpPr>
        <p:spPr>
          <a:xfrm>
            <a:off x="5946840" y="-7920"/>
            <a:ext cx="1713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icture 7"/>
          <p:cNvSpPr/>
          <p:nvPr/>
        </p:nvSpPr>
        <p:spPr>
          <a:xfrm>
            <a:off x="6022800" y="-7920"/>
            <a:ext cx="171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5" descr=""/>
          <p:cNvPicPr/>
          <p:nvPr/>
        </p:nvPicPr>
        <p:blipFill>
          <a:blip r:embed="rId3"/>
          <a:stretch/>
        </p:blipFill>
        <p:spPr>
          <a:xfrm>
            <a:off x="3492360" y="55440"/>
            <a:ext cx="3498840" cy="92556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1"/>
          <p:cNvSpPr/>
          <p:nvPr/>
        </p:nvSpPr>
        <p:spPr>
          <a:xfrm>
            <a:off x="493560" y="6492960"/>
            <a:ext cx="631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1:29:26Z</dcterms:created>
  <dc:creator>Aksuchin</dc:creator>
  <dc:description/>
  <dc:language>en-US</dc:language>
  <cp:lastModifiedBy>Начальная</cp:lastModifiedBy>
  <dcterms:modified xsi:type="dcterms:W3CDTF">2020-04-18T09:57:50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